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386-6A5C-4824-B549-210DF1F4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0F34-D454-4771-9AF7-1D0825BA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4FD1-8A2C-476A-9F73-F387A97FE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E1D7-7B58-437A-8E60-8F226499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062B-139B-4FD9-8881-490AF029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745-0E2A-472A-8B9C-CBB52822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D7AE-9386-40D4-B023-C63C8BA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9AE-4C23-4EE8-BFD9-050C37F9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8BD1-CD9F-4853-92DE-9E18B24D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EBA-F0B0-490B-880D-0E06A77F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E5DF-A53D-4C4A-B70D-825EB02D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906D-643A-4509-9DEC-D211ED3D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CE49-2F2A-40B4-97FD-197FCE2FC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tudent S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46-184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evens invents a die device for making cans bring production up to 60 cans per ho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n Taylor patents a machine stamped ti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50-1870 Improvements on solde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77 Side seamer can int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85 Condensed milk canned in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cal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920" y="129528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many of the sea food packing plants in the area used canning the most interested fact I found was in 1930 the first beer was canned and distributed in Richmond VA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ruegers Be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ECPS-USER\My Documents\My Pictures\b_1937.jpg"/>
          <p:cNvPicPr/>
          <p:nvPr/>
        </p:nvPicPr>
        <p:blipFill>
          <a:blip r:embed="rId1"/>
          <a:stretch/>
        </p:blipFill>
        <p:spPr>
          <a:xfrm>
            <a:off x="7086600" y="3873600"/>
            <a:ext cx="2057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ore innovation were made through out history many more than I can list here. They are still making changes everyday in this process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n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 first can had a diameter of 2 ¾ inches and a height of 4 3/8 in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rface area was 44.37 square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was 14.39 cubic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co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cond can had a diameter of 2 5/8 inches with a height of 5 7/8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rface area was 54.85 square in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olume was 18.81 cubic inc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found out that the larger the radius the less surface area a can has.  This works up to a poi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aller the can the more surface area it h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of C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rted in France by Napoleon.  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ed to keep food fresh for his troops as he tried to conquer the worl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fered 12,000 francs for a metho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urrent value of this is 11,186 dolla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s of early canning bott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ECPS-USER\My Documents\My Pictures\foodgroup.jpg"/>
          <p:cNvPicPr/>
          <p:nvPr/>
        </p:nvPicPr>
        <p:blipFill>
          <a:blip r:embed="rId1"/>
          <a:stretch/>
        </p:blipFill>
        <p:spPr>
          <a:xfrm>
            <a:off x="1066680" y="2057400"/>
            <a:ext cx="655344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ner Nickolas App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ert won the prize in 1809 when he found if you partially cook the foods seal it in bottles and then put it in boiling water it would stay fre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C:\Documents and Settings\ECPS-USER\My Documents\My Pictures\appert_fruits.jpg"/>
          <p:cNvPicPr/>
          <p:nvPr/>
        </p:nvPicPr>
        <p:blipFill>
          <a:blip r:embed="rId1"/>
          <a:stretch/>
        </p:blipFill>
        <p:spPr>
          <a:xfrm>
            <a:off x="5410080" y="3581280"/>
            <a:ext cx="175284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anwhile in Engl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to be outdone Peter Durand in 1810 was working on canning with tinpl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growabrain.typepad.com/photos/uncategorized/oyster_cans.jpg"/>
          <p:cNvPicPr/>
          <p:nvPr/>
        </p:nvPicPr>
        <p:blipFill>
          <a:blip r:embed="rId1"/>
          <a:stretch/>
        </p:blipFill>
        <p:spPr>
          <a:xfrm>
            <a:off x="6049800" y="3048120"/>
            <a:ext cx="3094200" cy="380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upload.wikimedia.org/wikipedia/commons/e/ef/Samuel_Erewhon_Butler-03-self_portrait.jpg"/>
          <p:cNvPicPr/>
          <p:nvPr/>
        </p:nvPicPr>
        <p:blipFill>
          <a:blip r:embed="rId2"/>
          <a:stretch/>
        </p:blipFill>
        <p:spPr>
          <a:xfrm>
            <a:off x="0" y="2666880"/>
            <a:ext cx="3521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812 First canning Fac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www.wemett.net/pics/lehigh_station_&amp;_canning_factory.jpg"/>
          <p:cNvPicPr/>
          <p:nvPr/>
        </p:nvPicPr>
        <p:blipFill>
          <a:blip r:embed="rId1"/>
          <a:stretch/>
        </p:blipFill>
        <p:spPr>
          <a:xfrm>
            <a:off x="685800" y="1295280"/>
            <a:ext cx="739152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21:30:30Z</dcterms:created>
  <dc:creator>ECPS-USER</dc:creator>
  <dc:description/>
  <dc:language>en-US</dc:language>
  <cp:lastModifiedBy>ECPS-USER</cp:lastModifiedBy>
  <dcterms:modified xsi:type="dcterms:W3CDTF">2010-03-24T22:31:39Z</dcterms:modified>
  <cp:revision>7</cp:revision>
  <dc:subject/>
  <dc:title>Can Project</dc:title>
</cp:coreProperties>
</file>